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A55-A392-45A6-BC3E-2D0C7650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E0-2749-4DD5-B3E5-29F790C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3ED-5C02-44D4-AB49-BAED7140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9D3-A08C-4FE7-AA28-9042D7B6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963-64D4-49D2-B638-A5890B37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78B-6D66-449F-872C-29194F8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3B7-2F1C-4B17-B4E3-E7F7844E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148-288E-4EE3-978E-C92F4F8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6BA-EBBC-45E8-86AA-24231F7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FEB-F5E6-4BA2-99C1-C2622A2A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1D3-C786-4302-BDB7-EF31CCC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E8A-7F9E-42AD-A480-8D48256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B604-6450-475F-BD54-F9E3486A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38200" y="549360"/>
            <a:ext cx="626760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*^^ORLANDO BLOOM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IOGRAPHY^^*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FIL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57360"/>
          <a:ext cx="8229600" cy="5102280"/>
        </p:xfrm>
        <a:graphic>
          <a:graphicData uri="http://schemas.openxmlformats.org/drawingml/2006/table">
            <a:tbl>
              <a:tblPr/>
              <a:tblGrid>
                <a:gridCol w="2057400"/>
                <a:gridCol w="2273400"/>
                <a:gridCol w="1841400"/>
                <a:gridCol w="20574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teg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Fil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resu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return of the 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two to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ndi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community of the ring</a:t>
                      </a:r>
                      <a:r>
                        <a:rPr b="0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ndi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333360"/>
            <a:ext cx="799308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50000">
                      <a:srgbClr val="ffffff"/>
                    </a:gs>
                    <a:gs pos="100000">
                      <a:srgbClr val="7f7f7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Y: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50000">
                    <a:srgbClr val="ffffff"/>
                  </a:gs>
                  <a:gs pos="100000">
                    <a:srgbClr val="7f7f7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50000">
                      <a:srgbClr val="ffffff"/>
                    </a:gs>
                    <a:gs pos="100000">
                      <a:srgbClr val="7f7f7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ANIA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50000">
                    <a:srgbClr val="ffffff"/>
                  </a:gs>
                  <a:gs pos="100000">
                    <a:srgbClr val="7f7f7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His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al name-&gt;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rlando Jonathan Blanchard Bl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irth-&gt;13 January,1977 (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rom Canterbury, Kent,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^^Small Biography^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When he was 16 years old, Orlando moved to Lon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secured a scholarship to study in the British American Drama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made his debut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 the Guildhall School of Music and Drama, in Lond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8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8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Lord of the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He went to the casting of the Lord of the R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He was accepted for the role of Leg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Orlando appeared in the three parts of the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It was thanks to this movie that he becam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8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9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Pirates of the Caribb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He</a:t>
            </a: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played the role of William Turner 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He appeared next to famous actors Johnny Depp and Keira Knigh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5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5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Comic Sans MS"/>
              </a:rPr>
              <a:t>Tr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rad Pitt was also in this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The movie is an adaptation of Homer’s great e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It tells us the assault on Troy by the Greek fo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5E-006 4.07407E-006 L -2.5E-006 -0.07338 E">
                                      <p:cBhvr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kingdom of he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other of his famous films, with Liam Neeson, Jeremy Irons, and  Edward Nor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Filmography 2008-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197000"/>
          <a:ext cx="8218440" cy="5491080"/>
        </p:xfrm>
        <a:graphic>
          <a:graphicData uri="http://schemas.openxmlformats.org/drawingml/2006/table">
            <a:tbl>
              <a:tblPr/>
              <a:tblGrid>
                <a:gridCol w="1647720"/>
                <a:gridCol w="657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New York, I Love You (rolling the film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Everest . A climb for pe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in the end of the wor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In Celebration (play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the coffer of the dead m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Love and other disas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Kingdom of Hea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Elizabetht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Filmography 2004-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981000"/>
          <a:ext cx="7556400" cy="5570640"/>
        </p:xfrm>
        <a:graphic>
          <a:graphicData uri="http://schemas.openxmlformats.org/drawingml/2006/table">
            <a:tbl>
              <a:tblPr/>
              <a:tblGrid>
                <a:gridCol w="1593720"/>
                <a:gridCol w="5962680"/>
              </a:tblGrid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roy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Hav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calcium k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the curse of the black Rep 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Ned Kelly, the legend begi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 :the return of the k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 :the two towers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: the community of the ring</a:t>
                      </a:r>
                      <a:r>
                        <a:rPr b="0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Black Hawk demolish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19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Wil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7:37Z</dcterms:created>
  <dc:creator>Alumno53</dc:creator>
  <dc:description/>
  <dc:language>en-US</dc:language>
  <cp:lastModifiedBy>Alumno53</cp:lastModifiedBy>
  <dcterms:modified xsi:type="dcterms:W3CDTF">2008-06-09T09:00:05Z</dcterms:modified>
  <cp:revision>7</cp:revision>
  <dc:subject/>
  <dc:title>*Orlando Bloom*</dc:title>
</cp:coreProperties>
</file>